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11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Helvetica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41240" y="4585680"/>
            <a:ext cx="860112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11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Helvetica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724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8720" y="2101680"/>
            <a:ext cx="419724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1240" y="4585680"/>
            <a:ext cx="419724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8720" y="4585680"/>
            <a:ext cx="419724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11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Helvetica Bol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276948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680" y="2101680"/>
            <a:ext cx="276948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7760" y="2101680"/>
            <a:ext cx="276948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41240" y="4585680"/>
            <a:ext cx="276948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680" y="4585680"/>
            <a:ext cx="276948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7760" y="4585680"/>
            <a:ext cx="276948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11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Helvetica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41240" y="2101680"/>
            <a:ext cx="8601120" cy="47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11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Helvetica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47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11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Helvetica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7240" cy="47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8720" y="2101680"/>
            <a:ext cx="4197240" cy="47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11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Helvetica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41240" y="627120"/>
            <a:ext cx="8601120" cy="58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11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Helvetica Bol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724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8720" y="2101680"/>
            <a:ext cx="4197240" cy="47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41240" y="4585680"/>
            <a:ext cx="419724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11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Helvetica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7240" cy="47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8720" y="2101680"/>
            <a:ext cx="419724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8720" y="4585680"/>
            <a:ext cx="419724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11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Helvetica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724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8720" y="2101680"/>
            <a:ext cx="419724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41240" y="4585680"/>
            <a:ext cx="860112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11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Bol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1240" y="2101680"/>
            <a:ext cx="8601120" cy="47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2127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0800" indent="-20952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2800" indent="-21132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2800" indent="-21132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2800" indent="-21132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Helvetica Bold"/>
              </a:rPr>
              <a:t>Secure Data Export and Auditing using Data Diodes</a:t>
            </a:r>
            <a:endParaRPr b="0" lang="en-US" sz="4400" spc="-1" strike="noStrike">
              <a:solidFill>
                <a:srgbClr val="000000"/>
              </a:solidFill>
              <a:latin typeface="Helvetica Bol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uglas W. Jones and Tom C. Bowers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partment of Computer 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U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IVERSIT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W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work was partially supported by NSF Grant CNS-05243 (ACCURAT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4691160" y="2263680"/>
            <a:ext cx="731880" cy="79560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1008000" y="6289560"/>
            <a:ext cx="8047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http://www.cs.uiowa.edu/~jones/voting/diode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Helvetica Bold"/>
              </a:rPr>
              <a:t>Explaining the Transmitter</a:t>
            </a:r>
            <a:endParaRPr b="0" lang="en-US" sz="4400" spc="-1" strike="noStrike">
              <a:solidFill>
                <a:srgbClr val="000000"/>
              </a:solidFill>
              <a:latin typeface="Helvetica Bol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55483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hield pin in the c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nects to metallic she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hield pin on the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nects to trace that surrounds the electron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se make it difficult to use conductors inside the shield as radio anten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240600" y="2184480"/>
            <a:ext cx="3095640" cy="30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Helvetica Bold"/>
              </a:rPr>
              <a:t>Explaining the Transmitter</a:t>
            </a:r>
            <a:endParaRPr b="0" lang="en-US" sz="4400" spc="-1" strike="noStrike">
              <a:solidFill>
                <a:srgbClr val="000000"/>
              </a:solidFill>
              <a:latin typeface="Helvetica Bol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41240" y="1723680"/>
            <a:ext cx="5548320" cy="50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1200" indent="-31752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loopback conn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28260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ll computer we're rea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1200" indent="-31752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TS to 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28260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quest To Send (inp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28260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ear To Send (outp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1200" indent="-31752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TR to DSR and DC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28260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a Terminal Ready (inp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28260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a Set Ready (outp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28260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a Carrier Detect (outp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240600" y="2184480"/>
            <a:ext cx="3095640" cy="30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Helvetica Bold"/>
              </a:rPr>
              <a:t>Explaining the Receiver</a:t>
            </a:r>
            <a:endParaRPr b="0" lang="en-US" sz="4400" spc="-1" strike="noStrike">
              <a:solidFill>
                <a:srgbClr val="000000"/>
              </a:solidFill>
              <a:latin typeface="Helvetica 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27200" y="2157120"/>
            <a:ext cx="55483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power supp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s RTS TxD and DT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wer from Serial c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wer from special c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 batt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 power from wall out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pacitors and Di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mit 60Hz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743440" y="2259000"/>
            <a:ext cx="3781440" cy="30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Helvetica Bold"/>
              </a:rPr>
              <a:t>Explaining the Receiver</a:t>
            </a:r>
            <a:endParaRPr b="0" lang="en-US" sz="4400" spc="-1" strike="noStrike">
              <a:solidFill>
                <a:srgbClr val="000000"/>
              </a:solidFill>
              <a:latin typeface="Helvetica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27200" y="1722240"/>
            <a:ext cx="5548320" cy="51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1200" indent="-31752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Receiver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28260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s the power 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28260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nsmits to RxD 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1200" indent="-31752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p photodi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28260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ulls RxD po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1200" indent="-31752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ttom photodi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28260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ulls RxD neg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1200" indent="-31752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sistors needed 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28260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urrent limi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743440" y="2259000"/>
            <a:ext cx="3781440" cy="30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Helvetica Bold"/>
              </a:rPr>
              <a:t>Using the Data Diode</a:t>
            </a:r>
            <a:endParaRPr b="0" lang="en-US" sz="4400" spc="-1" strike="noStrike">
              <a:solidFill>
                <a:srgbClr val="000000"/>
              </a:solidFill>
              <a:latin typeface="Helvetica Bol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86043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 reverse channel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almo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st rely entirely on forward error cor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cksums (or better) to reject bad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undancy to provide for cor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erational status determined from downstr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nding from high to low security do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vert content in data is a big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like most low to high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Helvetica Bold"/>
              </a:rPr>
              <a:t>Auditors and Wiretaps</a:t>
            </a:r>
            <a:endParaRPr b="0" lang="en-US" sz="4400" spc="-1" strike="noStrike">
              <a:solidFill>
                <a:srgbClr val="000000"/>
              </a:solidFill>
              <a:latin typeface="Helvetica Bol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86043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a exported from EMS is pub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bservers should not trust the web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, observers should be allowed wiret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rectly observe data-flow to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rectly verify that data conforms to sp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ree air (as opposed to fiber optic) optical data diodes offer excellent access to the data stream by observer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Helvetica Bold"/>
              </a:rPr>
              <a:t>Exporting Election Results</a:t>
            </a:r>
            <a:endParaRPr b="0" lang="en-US" sz="4400" spc="-1" strike="noStrike">
              <a:solidFill>
                <a:srgbClr val="000000"/>
              </a:solidFill>
              <a:latin typeface="Helvetica Bol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740880" y="2101680"/>
            <a:ext cx="86043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ing relational database termi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lection results are a single relation ov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ecinct (or split, for split precinc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ace (or conte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didate (or position with respect to conte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otes for that candidate in that race in that precin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we need to do is export this entire re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Helvetica Bold"/>
              </a:rPr>
              <a:t>OASIS EML, A Bad Idea</a:t>
            </a:r>
            <a:endParaRPr b="0" lang="en-US" sz="4400" spc="-1" strike="noStrike">
              <a:solidFill>
                <a:srgbClr val="000000"/>
              </a:solidFill>
              <a:latin typeface="Helvetica Bol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90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1200" indent="-31752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quires h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28260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a diode invites an infinite str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1200" indent="-31752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erb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28260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uman audit diffic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1200" indent="-31752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vert chann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28260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lex rules for canonical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1200" indent="-31752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fficult to checks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53120" y="2157480"/>
            <a:ext cx="4047840" cy="4652280"/>
          </a:xfrm>
          <a:custGeom>
            <a:avLst/>
            <a:gdLst>
              <a:gd name="textAreaLeft" fmla="*/ 360 w 4047840"/>
              <a:gd name="textAreaRight" fmla="*/ 4047480 w 4047840"/>
              <a:gd name="textAreaTop" fmla="*/ 360 h 4652280"/>
              <a:gd name="textAreaBottom" fmla="*/ 4651920 h 4652280"/>
            </a:gdLst>
            <a:ahLst/>
            <a:rect l="textAreaLeft" t="textAreaTop" r="textAreaRight" b="textAreaBottom"/>
            <a:pathLst>
              <a:path w="21600" h="24825">
                <a:moveTo>
                  <a:pt x="8" y="0"/>
                </a:moveTo>
                <a:arcTo wR="8" hR="8" stAng="16200000" swAng="-5400000"/>
                <a:lnTo>
                  <a:pt x="0" y="24817"/>
                </a:lnTo>
                <a:arcTo wR="8" hR="8" stAng="10800000" swAng="-5400000"/>
                <a:lnTo>
                  <a:pt x="21592" y="24825"/>
                </a:lnTo>
                <a:arcTo wR="8" hR="8" stAng="5400000" swAng="-5400000"/>
                <a:lnTo>
                  <a:pt x="21600" y="8"/>
                </a:lnTo>
                <a:arcTo wR="8" hR="8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ourier New"/>
              </a:rPr>
              <a:t>#-- EML-20081104-US-CA-Santa_Clara_County-2216-1274.xml --#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ourier New"/>
              </a:rPr>
              <a:t>&lt;?xml version="1.0" encoding="UTF-8"?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ourier New"/>
              </a:rPr>
              <a:t>&lt;CastVote xmlns="440-castvote.xsd"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ourier New"/>
              </a:rPr>
              <a:t>&lt;ElectionEvent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900" spc="-1" strike="noStrike">
                <a:solidFill>
                  <a:srgbClr val="000000"/>
                </a:solidFill>
                <a:latin typeface="Courier New"/>
              </a:rPr>
              <a:t>&lt;Event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900" spc="-1" strike="noStrike">
                <a:solidFill>
                  <a:srgbClr val="000000"/>
                </a:solidFill>
                <a:latin typeface="Courier New"/>
              </a:rPr>
              <a:t>&lt;EventName Id="n1274s213"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900" spc="-1" strike="noStrike">
                <a:solidFill>
                  <a:srgbClr val="000000"/>
                </a:solidFill>
                <a:latin typeface="Courier New"/>
              </a:rPr>
              <a:t>Santa Clara County, CA, USA (2008-11-04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900" spc="-1" strike="noStrike">
                <a:solidFill>
                  <a:srgbClr val="000000"/>
                </a:solidFill>
                <a:latin typeface="Courier New"/>
              </a:rPr>
              <a:t>&lt;/EventNa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900" spc="-1" strike="noStrike">
                <a:solidFill>
                  <a:srgbClr val="000000"/>
                </a:solidFill>
                <a:latin typeface="Courier New"/>
              </a:rPr>
              <a:t>&lt;EventQualifier&gt;Precint 2216&lt;/EventQualifi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900" spc="-1" strike="noStrike">
                <a:solidFill>
                  <a:srgbClr val="000000"/>
                </a:solidFill>
                <a:latin typeface="Courier New"/>
              </a:rPr>
              <a:t>&lt;/Event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900" spc="-1" strike="noStrike">
                <a:solidFill>
                  <a:srgbClr val="000000"/>
                </a:solidFill>
                <a:latin typeface="Courier New"/>
              </a:rPr>
              <a:t>&lt;Election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900" spc="-1" strike="noStrike">
                <a:solidFill>
                  <a:srgbClr val="000000"/>
                </a:solidFill>
                <a:latin typeface="Courier New"/>
              </a:rPr>
              <a:t>&lt;ElectionName&gt;Presidency&lt;/ElectionNa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900" spc="-1" strike="noStrike">
                <a:solidFill>
                  <a:srgbClr val="000000"/>
                </a:solidFill>
                <a:latin typeface="Courier New"/>
              </a:rPr>
              <a:t>&lt;Contest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900" spc="-1" strike="noStrike">
                <a:solidFill>
                  <a:srgbClr val="000000"/>
                </a:solidFill>
                <a:latin typeface="Courier New"/>
              </a:rPr>
              <a:t>&lt;ContestName&gt;President&lt;/ContestNa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900" spc="-1" strike="noStrike">
                <a:solidFill>
                  <a:srgbClr val="000000"/>
                </a:solidFill>
                <a:latin typeface="Courier New"/>
              </a:rPr>
              <a:t>&lt;Selection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900" spc="-1" strike="noStrike">
                <a:solidFill>
                  <a:srgbClr val="000000"/>
                </a:solidFill>
                <a:latin typeface="Courier New"/>
              </a:rPr>
              <a:t>&lt;Option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900" spc="-1" strike="noStrike">
                <a:solidFill>
                  <a:srgbClr val="000000"/>
                </a:solidFill>
                <a:latin typeface="Courier New"/>
              </a:rPr>
              <a:t>&lt;OptionName&gt;V. I. Lenin&lt;/OptionNa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900" spc="-1" strike="noStrike">
                <a:solidFill>
                  <a:srgbClr val="000000"/>
                </a:solidFill>
                <a:latin typeface="Courier New"/>
              </a:rPr>
              <a:t>&lt;/Option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900" spc="-1" strike="noStrike">
                <a:solidFill>
                  <a:srgbClr val="000000"/>
                </a:solidFill>
                <a:latin typeface="Courier New"/>
              </a:rPr>
              <a:t>&lt;/Selection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900" spc="-1" strike="noStrike">
                <a:solidFill>
                  <a:srgbClr val="000000"/>
                </a:solidFill>
                <a:latin typeface="Courier New"/>
              </a:rPr>
              <a:t>&lt;/Contest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900" spc="-1" strike="noStrike">
                <a:solidFill>
                  <a:srgbClr val="000000"/>
                </a:solidFill>
                <a:latin typeface="Courier New"/>
              </a:rPr>
              <a:t>&lt;/Election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900" spc="-1" strike="noStrike">
                <a:solidFill>
                  <a:srgbClr val="000000"/>
                </a:solidFill>
                <a:latin typeface="Courier New"/>
              </a:rPr>
              <a:t>&lt;Election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900" spc="-1" strike="noStrike">
                <a:solidFill>
                  <a:srgbClr val="000000"/>
                </a:solidFill>
                <a:latin typeface="Courier New"/>
              </a:rPr>
              <a:t>&lt;ElectionName&gt;Presidency&lt;/ElectionNa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900" spc="-1" strike="noStrike">
                <a:solidFill>
                  <a:srgbClr val="000000"/>
                </a:solidFill>
                <a:latin typeface="Courier New"/>
              </a:rPr>
              <a:t>&lt;Contest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900" spc="-1" strike="noStrike">
                <a:solidFill>
                  <a:srgbClr val="000000"/>
                </a:solidFill>
                <a:latin typeface="Courier New"/>
              </a:rPr>
              <a:t>&lt;ContestName&gt;Vice-President&lt;/ContestNa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900" spc="-1" strike="noStrike">
                <a:solidFill>
                  <a:srgbClr val="000000"/>
                </a:solidFill>
                <a:latin typeface="Courier New"/>
              </a:rPr>
              <a:t>&lt;Selection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900" spc="-1" strike="noStrike">
                <a:solidFill>
                  <a:srgbClr val="000000"/>
                </a:solidFill>
                <a:latin typeface="Courier New"/>
              </a:rPr>
              <a:t>&lt;Option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900" spc="-1" strike="noStrike">
                <a:solidFill>
                  <a:srgbClr val="000000"/>
                </a:solidFill>
                <a:latin typeface="Courier New"/>
              </a:rPr>
              <a:t>&lt;OptionName&gt;Karl Marx&lt;/OptionNa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900" spc="-1" strike="noStrike">
                <a:solidFill>
                  <a:srgbClr val="000000"/>
                </a:solidFill>
                <a:latin typeface="Courier New"/>
              </a:rPr>
              <a:t>&lt;/Option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900" spc="-1" strike="noStrike">
                <a:solidFill>
                  <a:srgbClr val="000000"/>
                </a:solidFill>
                <a:latin typeface="Courier New"/>
              </a:rPr>
              <a:t>&lt;/Selection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900" spc="-1" strike="noStrike">
                <a:solidFill>
                  <a:srgbClr val="000000"/>
                </a:solidFill>
                <a:latin typeface="Courier New"/>
              </a:rPr>
              <a:t>&lt;/Contest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900" spc="-1" strike="noStrike">
                <a:solidFill>
                  <a:srgbClr val="000000"/>
                </a:solidFill>
                <a:latin typeface="Courier New"/>
              </a:rPr>
              <a:t>&lt;/Election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900" spc="-1" strike="noStrike">
                <a:solidFill>
                  <a:srgbClr val="000000"/>
                </a:solidFill>
                <a:latin typeface="Courier New"/>
              </a:rPr>
              <a:t>&lt;Election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900" spc="-1" strike="noStrike">
                <a:solidFill>
                  <a:srgbClr val="000000"/>
                </a:solidFill>
                <a:latin typeface="Courier New"/>
              </a:rPr>
              <a:t>&lt;ElectionName&gt;Senate&lt;/ElectionNa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900" spc="-1" strike="noStrike">
                <a:solidFill>
                  <a:srgbClr val="000000"/>
                </a:solidFill>
                <a:latin typeface="Courier New"/>
              </a:rPr>
              <a:t>&lt;Contest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900" spc="-1" strike="noStrike">
                <a:solidFill>
                  <a:srgbClr val="000000"/>
                </a:solidFill>
                <a:latin typeface="Courier New"/>
              </a:rPr>
              <a:t>&lt;ContestName&gt;Senator&lt;/ContestNa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900" spc="-1" strike="noStrike">
                <a:solidFill>
                  <a:srgbClr val="000000"/>
                </a:solidFill>
                <a:latin typeface="Courier New"/>
              </a:rPr>
              <a:t>&lt;Selection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900" spc="-1" strike="noStrike">
                <a:solidFill>
                  <a:srgbClr val="000000"/>
                </a:solidFill>
                <a:latin typeface="Courier New"/>
              </a:rPr>
              <a:t>&lt;Option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900" spc="-1" strike="noStrike">
                <a:solidFill>
                  <a:srgbClr val="000000"/>
                </a:solidFill>
                <a:latin typeface="Courier New"/>
              </a:rPr>
              <a:t>&lt;OptionName&gt;William Lloyd Garrison&lt;/OptionNa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900" spc="-1" strike="noStrike">
                <a:solidFill>
                  <a:srgbClr val="000000"/>
                </a:solidFill>
                <a:latin typeface="Courier New"/>
              </a:rPr>
              <a:t>&lt;/Option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Helvetica Bold"/>
              </a:rPr>
              <a:t>Reasonable Data Formats</a:t>
            </a:r>
            <a:endParaRPr b="0" lang="en-US" sz="4400" spc="-1" strike="noStrike">
              <a:solidFill>
                <a:srgbClr val="000000"/>
              </a:solidFill>
              <a:latin typeface="Helvetica Bol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40880" y="1654200"/>
            <a:ext cx="8604360" cy="509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1200" indent="-31752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repeating stream of checksummed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1200" indent="-31752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b separated fiel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1200" indent="0">
              <a:lnSpc>
                <a:spcPct val="85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600" spc="-1" strike="noStrike">
                <a:solidFill>
                  <a:srgbClr val="000000"/>
                </a:solidFill>
                <a:latin typeface="Courier New"/>
              </a:rPr>
              <a:t>IC15 President Lincoln 25   1638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1200" indent="0">
              <a:lnSpc>
                <a:spcPct val="85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600" spc="-1" strike="noStrike">
                <a:solidFill>
                  <a:srgbClr val="000000"/>
                </a:solidFill>
                <a:latin typeface="Courier New"/>
              </a:rPr>
              <a:t>CV06 Mayor     Thomas  42   3276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1200" indent="-31752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MLish but not really X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1200" indent="0">
              <a:lnSpc>
                <a:spcPct val="85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600" spc="-1" strike="noStrike">
                <a:solidFill>
                  <a:srgbClr val="000000"/>
                </a:solidFill>
                <a:latin typeface="Courier New"/>
              </a:rPr>
              <a:t>&lt;ITEM PRECINCT=”IC15” RACE=”President”  CANDIDATE=”Lincoln” VOTES=”25” /&gt;5389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1200" indent="0">
              <a:lnSpc>
                <a:spcPct val="85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600" spc="-1" strike="noStrike">
                <a:solidFill>
                  <a:srgbClr val="000000"/>
                </a:solidFill>
                <a:latin typeface="Courier New"/>
              </a:rPr>
              <a:t>&lt;ITEM PRECINCT=”CV06” RACE=”mayor”      CANDIDATE=”Thomas” VOTES=”42” /&gt;4127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1200" indent="-31752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opt (on weak grounds) for XML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Helvetica Bold"/>
              </a:rPr>
              <a:t>Covert Channels</a:t>
            </a:r>
            <a:endParaRPr b="0" lang="en-US" sz="4400" spc="-1" strike="noStrike">
              <a:solidFill>
                <a:srgbClr val="000000"/>
              </a:solidFill>
              <a:latin typeface="Helvetica Bol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86043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R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vert export of security keys from 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Def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igid format constraints on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212760">
              <a:lnSpc>
                <a:spcPct val="95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 optional, permutable, or alternat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212760">
              <a:lnSpc>
                <a:spcPct val="95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 free use of whitespace or line 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de audit on real-time checks in transmit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212760">
              <a:lnSpc>
                <a:spcPct val="95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 non-constant time delays allowed in transmi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Helvetica Bold"/>
              </a:rPr>
              <a:t>The Problem</a:t>
            </a:r>
            <a:endParaRPr b="0" lang="en-US" sz="4400" spc="-1" strike="noStrike">
              <a:solidFill>
                <a:srgbClr val="000000"/>
              </a:solidFill>
              <a:latin typeface="Helvetica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lection result must be put on the n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lection database  must be protec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flict resolved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neakernet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en odder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921200" y="1859040"/>
            <a:ext cx="4699080" cy="4660920"/>
          </a:xfrm>
          <a:prstGeom prst="rect">
            <a:avLst/>
          </a:prstGeom>
          <a:ln w="0">
            <a:noFill/>
          </a:ln>
        </p:spPr>
      </p:pic>
      <p:grpSp>
        <p:nvGrpSpPr>
          <p:cNvPr id="45" name=""/>
          <p:cNvGrpSpPr/>
          <p:nvPr/>
        </p:nvGrpSpPr>
        <p:grpSpPr>
          <a:xfrm>
            <a:off x="6118920" y="6653160"/>
            <a:ext cx="2575440" cy="463320"/>
            <a:chOff x="6118920" y="6653160"/>
            <a:chExt cx="2575440" cy="463320"/>
          </a:xfrm>
        </p:grpSpPr>
        <p:sp>
          <p:nvSpPr>
            <p:cNvPr id="46" name=""/>
            <p:cNvSpPr/>
            <p:nvPr/>
          </p:nvSpPr>
          <p:spPr>
            <a:xfrm>
              <a:off x="6121440" y="6653160"/>
              <a:ext cx="2571840" cy="45720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6118920" y="6653160"/>
              <a:ext cx="2575440" cy="463320"/>
              <a:chOff x="6118920" y="6653160"/>
              <a:chExt cx="2575440" cy="463320"/>
            </a:xfrm>
          </p:grpSpPr>
          <p:sp>
            <p:nvSpPr>
              <p:cNvPr id="48" name=""/>
              <p:cNvSpPr/>
              <p:nvPr/>
            </p:nvSpPr>
            <p:spPr>
              <a:xfrm>
                <a:off x="6121440" y="6653160"/>
                <a:ext cx="2570040" cy="45576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" name=""/>
              <p:cNvGrpSpPr/>
              <p:nvPr/>
            </p:nvGrpSpPr>
            <p:grpSpPr>
              <a:xfrm>
                <a:off x="6118920" y="6653160"/>
                <a:ext cx="2575440" cy="463320"/>
                <a:chOff x="6118920" y="6653160"/>
                <a:chExt cx="2575440" cy="463320"/>
              </a:xfrm>
            </p:grpSpPr>
            <p:sp>
              <p:nvSpPr>
                <p:cNvPr id="50" name=""/>
                <p:cNvSpPr/>
                <p:nvPr/>
              </p:nvSpPr>
              <p:spPr>
                <a:xfrm>
                  <a:off x="6121440" y="6653160"/>
                  <a:ext cx="2570040" cy="455760"/>
                </a:xfrm>
                <a:prstGeom prst="roundRect">
                  <a:avLst>
                    <a:gd name="adj" fmla="val 347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6118920" y="6653160"/>
                  <a:ext cx="2575440" cy="463320"/>
                </a:xfrm>
                <a:prstGeom prst="roundRect">
                  <a:avLst>
                    <a:gd name="adj" fmla="val 347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Arial"/>
                    </a:rPr>
                    <a:t>Miami Dade County Solutio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5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Arial"/>
                    </a:rPr>
                    <a:t>Security through obscurity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Helvetica Bold"/>
              </a:rPr>
              <a:t>Transparent Checksums</a:t>
            </a:r>
            <a:endParaRPr b="0" lang="en-US" sz="4400" spc="-1" strike="noStrike">
              <a:solidFill>
                <a:srgbClr val="000000"/>
              </a:solidFill>
              <a:latin typeface="Helvetica 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858852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have a transparent data diode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have a transparent data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nee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 transparent checksum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andable using highschool m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sy to code in a bad programming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C-16 is not transparen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y explaining this: X</a:t>
            </a:r>
            <a:r>
              <a:rPr b="0" lang="en-GB" sz="2800" spc="-1" strike="noStrike" baseline="33000">
                <a:solidFill>
                  <a:srgbClr val="000000"/>
                </a:solidFill>
                <a:latin typeface="Arial"/>
              </a:rPr>
              <a:t>16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en-GB" sz="2800" spc="-1" strike="noStrike" baseline="33000">
                <a:solidFill>
                  <a:srgbClr val="000000"/>
                </a:solidFill>
                <a:latin typeface="Arial"/>
              </a:rPr>
              <a:t>15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en-GB" sz="2800" spc="-1" strike="noStrike" baseline="33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r th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930400" y="6154560"/>
            <a:ext cx="5067360" cy="77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Helvetica Bold"/>
              </a:rPr>
              <a:t>Transparent Checksums</a:t>
            </a:r>
            <a:endParaRPr b="0" lang="en-US" sz="4400" spc="-1" strike="noStrike">
              <a:solidFill>
                <a:srgbClr val="000000"/>
              </a:solidFill>
              <a:latin typeface="Helvetica 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27200" y="1933560"/>
            <a:ext cx="86040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classic transparent but weak checks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= 0; S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Arial"/>
              </a:rPr>
              <a:t>i+1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= (S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C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 mod 2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modest pro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= 0; S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Arial"/>
              </a:rPr>
              <a:t>i+1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= (5S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C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 mod 655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kin to multiplicitative congruence PR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multipliers and moduli are b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there a cryptographically secure hash code that meets our transparency goa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Helvetica Bold"/>
              </a:rPr>
              <a:t>Code to checksum data stream</a:t>
            </a:r>
            <a:endParaRPr b="0" lang="en-US" sz="4400" spc="-1" strike="noStrike">
              <a:solidFill>
                <a:srgbClr val="000000"/>
              </a:solidFill>
              <a:latin typeface="Helvetica Bol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740880" y="1512720"/>
            <a:ext cx="860292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/* filter to checksum each block of angle-bracketed tex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eads from stdin and copies to stdo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ppends decimal checksum to each closing angle brack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ngle brackets are included in the checks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NOTE:  This code is dumb, bracket nesting is ignored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racked imbalance is not checked.                       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ain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nt c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unsigned int sum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while ((ch = getchar()) != EOF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tchar( ch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m = (sum * 5 + ch) % 66636; /*accumulate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f (ch == '&lt;'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m = '&lt;';            /*initialize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 else if (ch == '&gt;'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f("%1u",sum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       }      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70040" y="6078600"/>
            <a:ext cx="909144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ven this is hard to explain, but it's in reach of a student who only has a semester of programming, perhaps in VB or wo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 rot="20640000">
            <a:off x="2345760" y="1401480"/>
            <a:ext cx="57614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0c0c0"/>
                </a:solidFill>
                <a:latin typeface="American Typewriter Bold"/>
              </a:rPr>
              <a:t>UNDER CONSTRU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0c0c0"/>
                </a:solidFill>
                <a:latin typeface="American Typewriter Bold"/>
              </a:rPr>
              <a:t>UNDER CONSTRU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0c0c0"/>
                </a:solidFill>
                <a:latin typeface="American Typewriter Bold"/>
              </a:rPr>
              <a:t>UNDER CONSTRU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Helvetica Bold"/>
              </a:rPr>
              <a:t>A Prototype Application</a:t>
            </a:r>
            <a:endParaRPr b="0" lang="en-US" sz="4400" spc="-1" strike="noStrike">
              <a:solidFill>
                <a:srgbClr val="000000"/>
              </a:solidFill>
              <a:latin typeface="Helvetica Bol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55280" y="1779120"/>
            <a:ext cx="8604360" cy="50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1200" indent="-31752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caffol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28260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tract results from example county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28260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ject in model EMS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1200" indent="-31752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mo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28260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yclically scan EMS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28260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ort through data di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1200" indent="-31752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cent quality prototype application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28260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eive data from data diode to mirror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28260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rver-side web application for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Helvetica Bold"/>
              </a:rPr>
              <a:t>Other Applications</a:t>
            </a:r>
            <a:endParaRPr b="0" lang="en-US" sz="4400" spc="-1" strike="noStrike">
              <a:solidFill>
                <a:srgbClr val="000000"/>
              </a:solidFill>
              <a:latin typeface="Helvetica Bol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39801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95000"/>
              </a:lnSpc>
              <a:spcBef>
                <a:spcPts val="5950"/>
              </a:spcBef>
              <a:spcAft>
                <a:spcPts val="737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pstr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5000"/>
              </a:lnSpc>
              <a:spcBef>
                <a:spcPts val="5950"/>
              </a:spcBef>
              <a:spcAft>
                <a:spcPts val="737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 voting 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716280" y="2093760"/>
            <a:ext cx="5624640" cy="18288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211720" y="4021200"/>
            <a:ext cx="411480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Helvetica Bold"/>
              </a:rPr>
              <a:t>What we need</a:t>
            </a:r>
            <a:endParaRPr b="0" lang="en-US" sz="4400" spc="-1" strike="noStrike">
              <a:solidFill>
                <a:srgbClr val="000000"/>
              </a:solidFill>
              <a:latin typeface="Helvetica Bol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58172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data di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 data ex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vent data im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sign understood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lection ob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lection offic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sing candi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381640" y="2152800"/>
            <a:ext cx="4699080" cy="466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81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Helvetica Bold"/>
              </a:rPr>
              <a:t>US Patent 5,703,562</a:t>
            </a:r>
            <a:endParaRPr b="0" lang="en-US" sz="4400" spc="-1" strike="noStrike">
              <a:solidFill>
                <a:srgbClr val="000000"/>
              </a:solidFill>
              <a:latin typeface="Helvetica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1320" y="4199040"/>
            <a:ext cx="8461440" cy="28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aims limited to up-hierarchy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 given for RS-232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nsmit: 1 IC + 8 components + 5 volt 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eive:  1 IC + 4 components + 5 volt 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lain this to a naïve suspicious observ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522440" y="1382760"/>
            <a:ext cx="6983280" cy="27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Helvetica Bold"/>
              </a:rPr>
              <a:t>Commercial Data Diodes</a:t>
            </a:r>
            <a:endParaRPr b="0" lang="en-US" sz="4400" spc="-1" strike="noStrike">
              <a:solidFill>
                <a:srgbClr val="000000"/>
              </a:solidFill>
              <a:latin typeface="Helvetica Bold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062680" y="1327320"/>
            <a:ext cx="3411360" cy="18288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712880" y="1523880"/>
            <a:ext cx="2654280" cy="14353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559480" y="3340080"/>
            <a:ext cx="2413080" cy="18921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1833480" y="3484440"/>
            <a:ext cx="2413080" cy="1549440"/>
          </a:xfrm>
          <a:prstGeom prst="rect">
            <a:avLst/>
          </a:prstGeom>
          <a:ln w="0">
            <a:noFill/>
          </a:ln>
        </p:spPr>
      </p:pic>
      <p:grpSp>
        <p:nvGrpSpPr>
          <p:cNvPr id="63" name=""/>
          <p:cNvGrpSpPr/>
          <p:nvPr/>
        </p:nvGrpSpPr>
        <p:grpSpPr>
          <a:xfrm>
            <a:off x="952560" y="5560920"/>
            <a:ext cx="8155080" cy="842040"/>
            <a:chOff x="952560" y="5560920"/>
            <a:chExt cx="8155080" cy="842040"/>
          </a:xfrm>
        </p:grpSpPr>
        <p:sp>
          <p:nvSpPr>
            <p:cNvPr id="64" name=""/>
            <p:cNvSpPr/>
            <p:nvPr/>
          </p:nvSpPr>
          <p:spPr>
            <a:xfrm>
              <a:off x="952560" y="5560920"/>
              <a:ext cx="8155080" cy="831960"/>
            </a:xfrm>
            <a:prstGeom prst="roundRect">
              <a:avLst>
                <a:gd name="adj" fmla="val 19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952560" y="5560920"/>
              <a:ext cx="8155080" cy="842040"/>
              <a:chOff x="952560" y="5560920"/>
              <a:chExt cx="8155080" cy="842040"/>
            </a:xfrm>
          </p:grpSpPr>
          <p:sp>
            <p:nvSpPr>
              <p:cNvPr id="66" name=""/>
              <p:cNvSpPr/>
              <p:nvPr/>
            </p:nvSpPr>
            <p:spPr>
              <a:xfrm>
                <a:off x="952560" y="5560920"/>
                <a:ext cx="8155080" cy="831960"/>
              </a:xfrm>
              <a:prstGeom prst="roundRect">
                <a:avLst>
                  <a:gd name="adj" fmla="val 19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194120" y="5560920"/>
                <a:ext cx="7671600" cy="842040"/>
              </a:xfrm>
              <a:prstGeom prst="roundRect">
                <a:avLst>
                  <a:gd name="adj" fmla="val 19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575"/>
                  </a:spcBef>
                  <a:spcAft>
                    <a:spcPts val="575"/>
                  </a:spcAft>
                  <a:buClr>
                    <a:srgbClr val="000000"/>
                  </a:buClr>
                  <a:buSzPct val="45000"/>
                  <a:buFont typeface="Wingdings" charset="2"/>
                  <a:buChar char=""/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Both based on fiber-optic technolog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5000"/>
                  </a:lnSpc>
                  <a:spcBef>
                    <a:spcPts val="575"/>
                  </a:spcBef>
                  <a:spcAft>
                    <a:spcPts val="575"/>
                  </a:spcAft>
                  <a:buClr>
                    <a:srgbClr val="000000"/>
                  </a:buClr>
                  <a:buSzPct val="45000"/>
                  <a:buFont typeface="Wingdings" charset="2"/>
                  <a:buChar char=""/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Tenix Data Diode certified to EAL 7 under Common Criteri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"/>
          <p:cNvSpPr/>
          <p:nvPr/>
        </p:nvSpPr>
        <p:spPr>
          <a:xfrm>
            <a:off x="1765080" y="3054240"/>
            <a:ext cx="25610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www.owlcti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35280" y="4930920"/>
            <a:ext cx="23781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www.tenix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Helvetica Bold"/>
              </a:rPr>
              <a:t>Design Transparency</a:t>
            </a:r>
            <a:endParaRPr b="0" lang="en-US" sz="4400" spc="-1" strike="noStrike">
              <a:solidFill>
                <a:srgbClr val="000000"/>
              </a:solidFill>
              <a:latin typeface="Helvetica 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L 7 cer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sufficient if the certifying agency is not tru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if the vendor cheats after certific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refore, we n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lete design transpar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en doc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ights of observers to inspect entire mech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inimal complex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5640" y="615960"/>
            <a:ext cx="86076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Helvetica Bold"/>
              </a:rPr>
              <a:t>Our Design</a:t>
            </a:r>
            <a:endParaRPr b="0" lang="en-US" sz="4400" spc="-1" strike="noStrike">
              <a:solidFill>
                <a:srgbClr val="000000"/>
              </a:solidFill>
              <a:latin typeface="Helvetica Bol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22040" y="4146120"/>
            <a:ext cx="43578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1200" indent="-31752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void all black bo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28260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 3-terminal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28260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 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1200" indent="-31752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reme simpl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28260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RS-2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897200" y="1370160"/>
            <a:ext cx="6291000" cy="27432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438880" y="4848120"/>
            <a:ext cx="36576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Helvetica Bold"/>
              </a:rPr>
              <a:t>Explaining the circuit board</a:t>
            </a:r>
            <a:endParaRPr b="0" lang="en-US" sz="4400" spc="-1" strike="noStrike">
              <a:solidFill>
                <a:srgbClr val="000000"/>
              </a:solidFill>
              <a:latin typeface="Helvetica Bol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41240" y="4986360"/>
            <a:ext cx="8560080" cy="18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st explain function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very circuit tr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very 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971640" y="1658880"/>
            <a:ext cx="8115120" cy="326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Helvetica Bold"/>
              </a:rPr>
              <a:t>Explaining the Transmitter</a:t>
            </a:r>
            <a:endParaRPr b="0" lang="en-US" sz="4400" spc="-1" strike="noStrike">
              <a:solidFill>
                <a:srgbClr val="000000"/>
              </a:solidFill>
              <a:latin typeface="Helvetica Bol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53247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ND: signal 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xD: transmit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n TxD is pos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p LED li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n TxD is neg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ttom LED li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sistor needed 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urrent limi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240600" y="2182680"/>
            <a:ext cx="3095640" cy="3000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